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D4C-CDC4-4A14-8EC9-66D99B65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FC2-5A04-47A4-9392-0F2B5D63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F72-7394-4E97-AA1D-6BC0F2EC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7C6-650E-4BA9-BE99-A4DFB3C2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E89-250B-47D7-B55F-7277075E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129-E1AD-473B-9A90-19A80DC6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3E6-58D8-4F9C-9011-F3507064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D72-1006-4422-BCAE-012A9840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A2F-97D8-4C82-95B6-35A13E0C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45C-4BF6-4D55-B23E-6F1F4869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A6B-5825-4C4F-849A-98DD4625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229-ED1B-4BB6-9DC7-0295AC30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088C-8138-4B1E-8BA2-D7B4E8461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58672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4:46Z</dcterms:created>
  <dc:creator>Anon Anon</dc:creator>
  <dc:description/>
  <dc:language>en-US</dc:language>
  <cp:lastModifiedBy>Anon Anon</cp:lastModifiedBy>
  <dcterms:modified xsi:type="dcterms:W3CDTF">2005-08-16T04:24:18Z</dcterms:modified>
  <cp:revision>14</cp:revision>
  <dc:subject/>
  <dc:title>PowerPoint Presentation</dc:title>
</cp:coreProperties>
</file>